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B15D-B3B8-4AB4-B882-100C8BF0F4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4D6-E632-47A6-900D-5560202D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F9A-5C1E-4F11-B0F5-8D0804C5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86F-5CCB-4940-B60A-BCA4AC01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47C-F549-465C-8DBB-33AD0E67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496-CBF1-4496-8622-14AD281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E1F-D00F-410F-9691-C85A2A99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BA6-F601-49D2-B008-159E3A39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A37-39AC-4D18-A3B0-4ED62DA9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ED2-9552-497A-81F1-DB66E079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94F-6060-4FF2-BEB3-1F1FD6E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159-E1AF-48E6-9818-126CA7D3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CD4-F08A-496B-9DCC-89C30B90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ED1D-1355-499A-A25A-6367500202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297-E97A-422C-BF1D-14715615A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2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214200" y="3071880"/>
            <a:ext cx="8715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680" y="250020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428840"/>
            <a:ext cx="91440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14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акторы размещ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267920"/>
            <a:ext cx="85341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7236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68360" y="333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ы («кольца») сельскохозяйственной специализации И. Тю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0920" y="2736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размещения металлургического завод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«Локационный треугольник» В. Лаунхард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75640" cy="2647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587840" cy="350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829320" cy="3490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79280" y="18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28472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11280" y="40464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-162360"/>
            <a:ext cx="914400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ая литература по дисциплине «Региональная эконом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берг А.Г. Основы региональной экономики: Учебник. – М.: ГУ ВШЭ, 2006. – 49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306468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algn="ctr">
              <a:tabLst>
                <a:tab algn="l" pos="0"/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ctr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я: Учеб. пособие / Под ред. В.Г. Глушковой. – М.: КНОРУС, 2010. – 30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Т.Г. Морозовой. – М.: ЮНИТИ, 2008. – 51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ы России: Социально-экономические показатели. 2009: Стат. 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йский статистический ежегодник. 2009: Стат.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лого-экономические проблемы России и ее регионов: Учеб. пособие / Под общей ред. В.Г. Глушково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.: Московский Лицей, 200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0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7" descr=""/>
          <p:cNvPicPr/>
          <p:nvPr/>
        </p:nvPicPr>
        <p:blipFill>
          <a:blip r:embed="rId1"/>
          <a:stretch/>
        </p:blipFill>
        <p:spPr>
          <a:xfrm>
            <a:off x="6929280" y="1071720"/>
            <a:ext cx="1785960" cy="11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"/>
          <p:cNvPicPr/>
          <p:nvPr/>
        </p:nvPicPr>
        <p:blipFill>
          <a:blip r:embed="rId2"/>
          <a:stretch/>
        </p:blipFill>
        <p:spPr>
          <a:xfrm>
            <a:off x="6715080" y="3143160"/>
            <a:ext cx="2090880" cy="979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"/>
          <p:cNvPicPr/>
          <p:nvPr/>
        </p:nvPicPr>
        <p:blipFill>
          <a:blip r:embed="rId3"/>
          <a:stretch/>
        </p:blipFill>
        <p:spPr>
          <a:xfrm>
            <a:off x="6786720" y="4643280"/>
            <a:ext cx="2147760" cy="928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85840" y="509760"/>
            <a:ext cx="64292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рыноч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оложим, что существуют два центра (город 1 и город 2), обладающие каждый обособленными рыночными зонам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и отделённые друг от друга на расстоя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то есть на 12 км). Тогда можно определить «точку перелома»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или место где товарный поток сходит на нет, в единицах расстояния от второго города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28760" y="3266280"/>
            <a:ext cx="62308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стом случае, когда два города отстоят один от другого на 12 км и обладают одинаковыми по размеру рыночными зонами (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0040" y="4554000"/>
            <a:ext cx="615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20 и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5936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а во втором случае переместится в сторону меньшего центра (рис. 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"/>
          <p:cNvPicPr/>
          <p:nvPr/>
        </p:nvPicPr>
        <p:blipFill>
          <a:blip r:embed="rId1"/>
          <a:srcRect l="1582" t="2233" r="1582" b="3350"/>
          <a:stretch/>
        </p:blipFill>
        <p:spPr>
          <a:xfrm>
            <a:off x="1714680" y="500040"/>
            <a:ext cx="5715000" cy="397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85840" y="4864680"/>
            <a:ext cx="8572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между рыночными зонами центральных мест: с одинаковой (а) и с различной (б) «массой»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14200" y="24372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ные в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99680" y="1142640"/>
            <a:ext cx="82486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744880"/>
            <a:ext cx="9144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96080" cy="5716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альная экономи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50920" y="1341360"/>
            <a:ext cx="8585280" cy="5184720"/>
            <a:chOff x="250920" y="1341360"/>
            <a:chExt cx="8585280" cy="5184720"/>
          </a:xfrm>
        </p:grpSpPr>
        <p:sp>
          <p:nvSpPr>
            <p:cNvPr id="70" name="AutoShape 26"/>
            <p:cNvSpPr/>
            <p:nvPr/>
          </p:nvSpPr>
          <p:spPr>
            <a:xfrm>
              <a:off x="250920" y="1341360"/>
              <a:ext cx="858528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7"/>
            <p:cNvSpPr/>
            <p:nvPr/>
          </p:nvSpPr>
          <p:spPr>
            <a:xfrm>
              <a:off x="3290760" y="3487680"/>
              <a:ext cx="22831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гиональная эконом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965160" y="1341360"/>
              <a:ext cx="214632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ально-экономическая  ге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6510240" y="1341360"/>
              <a:ext cx="2325960" cy="143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 те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икро- и макроэкономи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0"/>
            <p:cNvSpPr/>
            <p:nvPr/>
          </p:nvSpPr>
          <p:spPr>
            <a:xfrm>
              <a:off x="6510240" y="3129120"/>
              <a:ext cx="2324160" cy="96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траслевая  эконо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1"/>
            <p:cNvSpPr/>
            <p:nvPr/>
          </p:nvSpPr>
          <p:spPr>
            <a:xfrm>
              <a:off x="250920" y="366552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2"/>
            <p:cNvSpPr/>
            <p:nvPr/>
          </p:nvSpPr>
          <p:spPr>
            <a:xfrm>
              <a:off x="250920" y="4559400"/>
              <a:ext cx="2146320" cy="54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арт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3"/>
            <p:cNvSpPr/>
            <p:nvPr/>
          </p:nvSpPr>
          <p:spPr>
            <a:xfrm>
              <a:off x="3827520" y="1341360"/>
              <a:ext cx="2232000" cy="714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статист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4"/>
            <p:cNvSpPr/>
            <p:nvPr/>
          </p:nvSpPr>
          <p:spPr>
            <a:xfrm>
              <a:off x="1860480" y="5632560"/>
              <a:ext cx="2862360" cy="71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ка природополь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5"/>
            <p:cNvSpPr/>
            <p:nvPr/>
          </p:nvSpPr>
          <p:spPr>
            <a:xfrm>
              <a:off x="3290760" y="2771640"/>
              <a:ext cx="2324160" cy="221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6"/>
            <p:cNvSpPr/>
            <p:nvPr/>
          </p:nvSpPr>
          <p:spPr>
            <a:xfrm>
              <a:off x="250920" y="277164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м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"/>
            <p:cNvSpPr/>
            <p:nvPr/>
          </p:nvSpPr>
          <p:spPr>
            <a:xfrm>
              <a:off x="6510240" y="4379760"/>
              <a:ext cx="232416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правление экономик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енедж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5437080" y="5811840"/>
              <a:ext cx="232596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Финанс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 flipV="1">
              <a:off x="2576520" y="4559400"/>
              <a:ext cx="71424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V="1">
              <a:off x="2576520" y="3844800"/>
              <a:ext cx="5349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2576520" y="3013200"/>
              <a:ext cx="71424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 flipV="1">
              <a:off x="3290760" y="4916520"/>
              <a:ext cx="35748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 flipH="1" flipV="1">
              <a:off x="5437080" y="4916160"/>
              <a:ext cx="35712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H="1" flipV="1">
              <a:off x="5793840" y="4379400"/>
              <a:ext cx="53676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 flipH="1">
              <a:off x="5793840" y="3487680"/>
              <a:ext cx="5367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 flipH="1">
              <a:off x="5616720" y="2592360"/>
              <a:ext cx="5364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 flipH="1">
              <a:off x="5079960" y="2235240"/>
              <a:ext cx="35712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8"/>
            <p:cNvSpPr/>
            <p:nvPr/>
          </p:nvSpPr>
          <p:spPr>
            <a:xfrm>
              <a:off x="3290760" y="2235240"/>
              <a:ext cx="53676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ация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ировка, классификация, тип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9:10:57Z</dcterms:created>
  <dc:creator>User</dc:creator>
  <dc:description/>
  <dc:language>en-US</dc:language>
  <cp:lastModifiedBy>LEGION</cp:lastModifiedBy>
  <dcterms:modified xsi:type="dcterms:W3CDTF">2016-01-04T14:04:04Z</dcterms:modified>
  <cp:revision>67</cp:revision>
  <dc:subject/>
  <dc:title>Региональная экономика</dc:title>
</cp:coreProperties>
</file>